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300-3AB9-4955-9846-B1444758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35B-6A4C-4741-81F3-30B45C08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7B9-C3A5-4662-A4C3-1C2A1906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B619-8FF9-4A51-AB02-751D4BEE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399E-1174-4D57-986E-06498340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090A-93DB-4C69-9C72-79618691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58D8-22E4-43D3-8AF7-191E2C8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0281-FE4E-48C4-A17B-DCE1C186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F789-A3C5-4F6E-A930-EC6BE894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F5ED-9C6E-4125-840B-BD466F4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04E-4955-4B8E-A7AA-245AF690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455-D233-4A85-B5DD-CA8E2E42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F352-4172-40E6-991A-DABED4FD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6F4-B07E-4698-851D-B02C42D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21B2-4E82-4040-8E71-2A2C89CD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CB71-C022-424F-BFF8-7320CA6C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0225-F938-4B9F-8EFF-A66E7165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A2E-5944-4EC1-AD0E-3B90D451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AF5-48AA-4B11-AFB1-97049477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661-39AE-4818-9019-CC6ADC2B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214-A898-4FFB-858B-627171BC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CB9-DD33-4346-81D0-6AB64FAA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DD8-78B2-48E5-A3A4-E7051CC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5E5-F6A3-46CA-B925-B33648D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AEA5-D213-45A6-B6F2-CE628D35EF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148F-C364-4624-A00F-00E972E2E2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ЕЛЕКЦИЈА КАНДИДАТ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и ОРЈЕНТ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762120" y="16668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Остал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 на дрогу и алкох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Најчешће коришћен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иктор у селекцији кандид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Греш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интервјуисањ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с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конт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увеличавање негативних информ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Интервју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е услед разлика у раси, националности, старости и п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вог у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ло гре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ретераног утицаја невербалних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ешка погрешног разумевања и меморис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Врсте интервју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руктурира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е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олу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уктурира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броју осо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е воде 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Индивиду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ане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Тимс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терв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оцијализациј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ознавање новозапослених кандидата са доминантним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редност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авов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ормама понаш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организациј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ријент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упознавање са пос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Евалуација квалитета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и 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али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Рацио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топа почетног успе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Трошк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тест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Трошкови грешака у селек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грешан избор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бијање добрих кандид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Селекција кандидат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оцес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изб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квалификованих кандидата за одређени посао и доношење одлуке о његовом запошљавању или одбијањ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ци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лекције је предвиђање будућег понашања потенцијалних кандидата и њихових перформанси на пос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ринципи селекције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Људи 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еђусобно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у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 погледу многих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и посл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хтевају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чите особи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комбинације особ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азл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међу људ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је могућ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уочити 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ери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и веза измеђ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редикт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особина људи)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критерију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успешност обављања посл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ење предиктор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 свак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редикт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реба наћи одговарајућ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нструмен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ба се фокусирати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кључне предиктор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графија и формулар за приј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Анализа биографских податак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 (Curriculum Vit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ар за пријављи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тивационо пис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Врст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тест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исан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естови узорака по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рни цен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едицински, физички и полиграфски тест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Писани тестов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гнити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вербалне, нумери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сихомотор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пособности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брзина, перцепција, тач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еликих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именз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кстравертност, Пријатност, Свесност, Емоционална стабилност, Отвореност за иску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ови интерес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Тестови узорака посл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д на практичним ствар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улација реалних услова на пос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упи су за спрово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њују се када им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њ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рој кандидата, обично на крају процеса сел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З: перформансе током ових тес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Мерни центри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 се користе за селекцију кандидат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за менаџерске пози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исте се различите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техни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у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Мерење помоћу гр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итуациони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-basket тест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групна дискусија без вођ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грање улог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тудија случ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2-24T06:44:24Z</dcterms:modified>
  <cp:revision>165</cp:revision>
  <dc:subject/>
  <dc:title>Soft and Hard Skills Development: A Current Situation in Serbian Companies</dc:title>
</cp:coreProperties>
</file>